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6B1-E81B-44F3-B7DB-4F9B1191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7E1-6CF4-4951-945C-1A40BAC2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D3A-E0B5-46C3-A6A3-6EC7F4E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627-D0FA-4872-A28E-EB063CE0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A9193-38AB-4DE6-896F-D9CDB399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A172-A026-4067-909C-A5F0936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F3037-5A07-4CCC-97A0-2B59D91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68FAA-B4B0-469B-9BFD-D58FC1A4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35991-82B0-47B2-907A-EE680AC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D87FB-0D8F-4E8D-B00C-DB29738C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402AB-540F-47B9-A741-A9C60AB9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B40-676B-46FF-9610-7A924151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CDF3-317A-44C6-87E7-7CA90E3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21720-D7BE-4BBE-AF86-977D33B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8847-CE47-4E4F-89F8-8A88ABF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F55BE-2BCD-4FBC-962C-DC73FE88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5D648-B18F-4598-BD20-6FBC470B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224-D167-4AC0-A721-49C074D8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A51-97AD-4015-8D7D-5CAA8647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039-54F8-4E9D-AFB4-4716C25F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242-B345-424B-870B-BBB792FB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752-3907-49AC-BA48-2428AE1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6D2-D213-48F5-BC70-7FA2CE7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42E-9B41-4EDA-9022-2A1CD35A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286-6DE3-4B62-8B92-4EB9EC2FB8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B04-BB0C-438A-952F-6B61AE203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chitect"/>
              </a:rPr>
              <a:t>Short Story Terms and Not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dness contin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Tone / Mo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the overall feeling created at the beginning of the story.  This is a VERY important part of the Short Story, because it sets up the entire piece of writing.  Mood could be scary, happy, suspenseful…whatever the writer wants to cre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chitect"/>
              </a:rPr>
              <a:t>Point of 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Point of View means how the story is being told.   Whose ‘voice’ are you hear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three main types of POV used in short stories.  Each of them can change the story entire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Narrative / 3</a:t>
            </a:r>
            <a:r>
              <a:rPr b="0" i="1" lang="en-US" sz="4400" spc="-1" strike="noStrike" baseline="30000">
                <a:solidFill>
                  <a:srgbClr val="e3e3ff"/>
                </a:solidFill>
                <a:latin typeface="Architect"/>
              </a:rPr>
              <a:t>rd</a:t>
            </a: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 Per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story is told by an ‘outside’ voice looking down on the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Narr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Every Who down in Whoville liked Christmas a lot.  But the Grinch…aah the Grinch did not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First Per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story is told by a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Cindy L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Santa gave me a drink of water last night, then took all my presents!  I must admit.  I’m disappointed.  I think I’ll sing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Stream of Though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story is told as if you are in the mind of the main character…oooo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Grin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Man…every year it’s the same thing!  I HATE that song!  I’ve got to…hey, I have no pants!  Oh, they are SO losing Christ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chitect"/>
              </a:rPr>
              <a:t>Charac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two main types of character in short stories.  The main character is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Architect"/>
              </a:rPr>
              <a:t>protagonist.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  All the action in the story revolves around her /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character that creates a conflict for the protagonist is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Architect"/>
              </a:rPr>
              <a:t>antagon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Script MT Bold"/>
              </a:rPr>
              <a:t>And now…time to work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31:36Z</dcterms:created>
  <dc:creator>Administrator</dc:creator>
  <dc:description/>
  <dc:language>en-US</dc:language>
  <cp:lastModifiedBy>Administrator</cp:lastModifiedBy>
  <dcterms:modified xsi:type="dcterms:W3CDTF">2007-01-08T14:43:25Z</dcterms:modified>
  <cp:revision>9</cp:revision>
  <dc:subject/>
  <dc:title>Short Story Terms and Notes</dc:title>
</cp:coreProperties>
</file>